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12F0-EB8C-443D-8F58-BAAF607AA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A67-4BF3-4C6D-A6B5-DB298248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731-CEA5-43EB-9F61-9355A5AD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6622E-8AFE-4DF3-9EB8-9530B8B4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B2B32-7F96-41EA-BEDB-0166F9D6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2B96E-85F7-4280-97D5-653D9BC3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5B223-A2E9-4FFD-B523-C752C6F8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7A27B-C121-4B2A-8188-9503C024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CFCBC-C044-424A-A31F-F227FC18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8063C-FC6C-4582-BF9D-360C0D2F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8CA85-4A70-446F-B934-3EC44A0C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DE8E2-48B8-4250-B436-4F8DB990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933F1-AD9A-4196-AFF2-183C5ED0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E8B-D99F-49C3-9183-9D3F6C7D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89D08-BA5F-403B-96C0-876B0411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CF618-F09B-4F64-88B3-372C5EDA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03C8C-94C9-4534-9328-BF73EB79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8233D-D701-4F86-9479-32DC1C6C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F154E-F193-45DA-8F21-DFBA0EFA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5B1B5-C9AA-422E-B0E7-CDA03F47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1A49F-7737-438B-BFCC-6349867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42DE8-A067-4E88-8198-05353CE3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C6446-ED54-4AA5-BB2E-8E75C9DB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DED15-F644-4653-AAE1-576CBC35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AED-0274-4A08-84B3-655F235E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F5252-09A0-49D7-A0C4-D72248E7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E6885-7898-475C-BAE0-83B5EAE5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1E6C6-8852-4C1E-B849-A9BB7E70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8C6EE-1242-4E25-8526-BE556DFC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A2321-CAB9-4F17-B869-B0D355AC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8B416-A136-4413-B745-7DAC60DB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4E5ED-30C5-486D-A315-0990489E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FCA99-1E33-4AB4-89BD-8F3F27CC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D2927-6FE9-42F8-AF9E-3BD5CB75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BE7F6-DDC7-420B-94D6-3CE96E41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4911-3B5D-4CD8-9E1C-C80019AD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7A685-E040-496A-AD18-0BC68A66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07529-4BAE-41DB-8127-D6745E20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99EBD-E319-4E52-A9C3-0B133ECF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5D42C-7314-4703-B03E-23414A42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DB04E-F04B-4050-97E0-62AAFC44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F4785-2142-49BE-9661-4786C475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AA21F-4FC7-4B91-8D64-82D75323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A8E05-8EFC-4FC3-ABC9-DA59B5E6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18150-3BE8-4C61-AFDB-AE67E62A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D9657-6135-4C94-8542-890D3BBD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5650-1DAF-4834-BE2A-6E13EC71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C6692-5F17-4F5C-B11C-38952444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84989-6007-4CF9-AE37-CC6E616D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C1CC1-4B80-41D5-AC1D-1A4D17A0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85D8A-CE9C-42D0-AA73-5723176E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DCF8C-CF97-4AF9-AB45-A5583F95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27D9D-5EC4-4B18-846A-3535C633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B3782-3F22-4581-ACF4-D2E1EDEA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257C4-2144-4C7D-A2A2-36A69899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DA1AC-828D-43B6-9A0F-6DBCC2BD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9DCEC-0F3D-4AD8-BCA1-CF3705A5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1AFC-2FD8-4786-8320-D89FA28A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9CF08-52BD-4506-97ED-5071CA80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AD17E-F3C8-45B8-9274-52FFE5F5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19B01-F161-4817-9B33-2ADBAB1B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3FD6B-52FE-40BA-AF3B-4890188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AEB3E-84DA-4735-9E92-BADAC79A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C9367-1B63-49FD-891C-54CAAE56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C81C9-FD3F-4D0E-93FB-7BC7EC65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20C77-10E4-4754-AB72-8AB2A974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3E59C-06B3-4D57-8A9E-36095F98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131A7-4EE5-4A6F-B990-9BC0BF7C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EE13-11D4-4C14-A6F1-4FB766DD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A0F44-CA24-45E8-94FC-2FCA868A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CB4D9-661D-496C-8DDC-5CA89B07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FA04D-34CD-4590-834E-CCB21321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DC0B9-F433-4DE8-8BDE-2D668AB4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AF9BC-76B5-4BEC-8934-E99677B5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AC634-CF7A-43A9-B5ED-66F4FE4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04171-4CC3-4655-9E68-C729F583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18A97-3D95-4D39-A273-E09385C6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44473-7B17-4C81-8A9C-81BBB2D8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86B69-9E2E-40FB-A360-35F5173D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41AE-AC86-4606-B6D2-884489B3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52BE4-F9B4-431B-9BE4-E4B9E8B2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1F1B9-9770-4E8B-B5EA-A8941886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C4CBA-53FA-4B94-8235-86FC7A2B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C50C8-875A-4907-BE58-EA8CE9B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FE214-8AE2-4501-9D88-1264CB8A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819B8-0D1D-4C80-B78B-144F1AFB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5A27B-DB2B-47D3-A16A-6E0984A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8FF81-CD2A-47C2-A3A3-AD209647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5917D-4F00-4296-9EBE-AA2C67EA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C5C64-D1AD-4B98-BD9F-4119E3FB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5F37-6FD3-4DCF-9259-B26F9518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96660-BD1C-4F87-A44D-4FAE7827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C043D-BD06-4A5C-A839-3F65AECB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BA63C-0F20-45BA-8A5C-B27B6AA5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50EDEA-DE33-41F6-8AAB-624198E7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2B595-744A-4315-90BB-7718A942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9952D-4BFC-4BF2-B8C9-D40CE728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84A00-A7C5-45EF-A430-852A98D3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7BB2E-C993-4633-A03B-4BB1CCB1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950DE3-6E77-4DB2-8FE8-F60694B9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1E25B9-5200-4382-97EB-AFAEAFC8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D195-E1BF-406A-B26B-F3B6EB8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F036C-1636-4D3A-A062-E53241A3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739ED-7188-4054-94A7-F7AEFE56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9A146-3780-44BC-8E36-74CB205B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9F1B0-22F1-403E-ADA4-06989331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8156B-B8AC-480D-9E84-F2E382E3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9C482-17CD-499F-9991-F8C91E9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0923F-E8AC-4856-9E26-A14C6EC0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93840-BF79-42ED-BD21-96B58335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56E0E-C005-4EDA-8D6B-5A3CC0C7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D1B75-B264-4663-BB02-8EA9A83A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C93-11DF-4BF3-95E3-EC3FC0E4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6E4B-B067-4632-96A8-A51ABD59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1B1C6-7361-436A-A02E-B032406F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C9E73-8FA0-4434-8893-202FC4FE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DF963-EEFE-4FD8-9526-85FEE418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CE888-8AC9-481E-A17F-D63C3954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CC90A-6584-4024-904D-9EABD5BE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D2BC3-561B-47A7-A31E-63B737D0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669F6-0493-436C-AFD4-81DC8E2D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72D4C-891E-4BF3-AEED-93E54AAC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2FD03-67FA-4EBA-9239-29106DA4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5A4DD-7CD2-4F1A-99EB-DE510299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96FF-3BA0-4A95-9CB6-ACC733F4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DF18B3-5F61-44CF-B5EB-6709F3B1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7F391-3A30-44EC-8E46-FB195420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59D5D-C662-4202-A186-8CEE0A90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50E6E-B752-4448-ADA9-F9A06937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D5CE9-93A4-4D3B-82AC-CC5A0A5D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F20647-CCF7-4911-BED3-714256D8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F90D7D-8AB4-442E-9E14-D0305B4D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CE1F39-8F0B-460A-A0CE-B5F71B99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DEBF5-CEA2-44E5-8B64-D8A4DF3F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90585-24A1-4DAB-A7CF-93004811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E5B1-A46A-48C7-BDCF-545334CE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074E33-E597-4D3B-BD22-B37E8AE2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8C4390-DA8F-4AE7-9BF9-9ACE55D1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D588A2-CDBD-4D5B-A3DF-F5A519BA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99BDB-5493-4EB5-9441-83B164DE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CC19AA-5C24-4C31-94DD-0452FC0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BBB66-C16C-425E-906F-A08C5352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A6CAE-E844-4871-81D3-03A139ED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4487D7-3BD6-4BDE-AF00-F0B6CFB1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4A922-AD5C-4C4D-9C0B-BBCD37DE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82A19-5D06-4975-B37A-DC3ADEAB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CF98-0A66-4E41-87E6-AE309811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54939E-4BEE-467A-815A-C25C3ECF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8D35BE-C863-4D53-81D0-C72B0F01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403754-5A7F-4BD7-B5E3-00B5E086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50175-9389-4357-B2B3-FDD4AB99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E958A2-6329-43F7-8D03-CAE577AF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C44D5-2C07-46DB-8BBD-D973D37E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1E97A-6708-423C-9EB2-54EAE20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0D540-73F6-487E-ABBB-D5AA59BA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1B1C63-71A7-4576-9362-1E5BF953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3E832-22AB-4ABC-8E78-24CFE4D0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DCD1-052E-4F99-AEF8-D6BCDB94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002CE-D377-44BC-AEF5-1B47936B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CD08E-E5DC-4CDF-AFB2-FDF8DA6A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D86BF-E715-49E8-9F16-129B1EC8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7BDB1C-C585-4F56-A224-C2F35BA6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798713-084C-4A99-976A-C5494D8F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DF2D3D-B30C-40F9-97EA-1074BE97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99F70-A8E4-4590-A121-D2A7ED1C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D3A7D-DF6F-42E9-AB07-2727A2E1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2E37A-A441-4226-B053-AF501E88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C1B687-9161-45A9-9BA9-80EF440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C0DD-6654-40A9-BCC8-CC92DA4B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F6BABA-4128-490A-81E8-5C2BA4B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5E1CC-2F22-4B76-9C3C-6C0B6DC0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C4BDEF-D3CD-46CB-94B6-04D7FD81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62DB22-3DD7-4933-9F1F-3E53ED3B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18742-90D6-4BEA-A95F-A056F77D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68E802-583A-4AC9-A0FA-82D38965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E00D4F-4307-48DD-AB62-DFE42103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D0AFE9-02E8-4F76-8A35-F35C4780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6A8197-E4FB-438D-9781-7ED36336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F785F2-B874-496E-A995-6BB92062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D13E-7EF2-4B98-B019-30BDFC93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02C9B8-1F87-4206-AE5A-B1AB844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0CD42F-B85C-4D15-A215-D970AFF8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4B6835-FF17-4929-BA93-61CC85E2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363BF1-A4F1-47F1-AC49-5034F4F3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61085D-49F3-47CD-9E7F-9D25E548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47A4D3-DB1C-4E48-81E6-4E955531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F4AC2C-4946-4AF9-A4FD-E91D4512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37E5DD-1113-40D4-96BB-3F876F62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8DC10F-E64E-439B-9EAE-DCF67BE6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C3D6B7-EB5E-4937-A4BB-E783E617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F9BA-BD7A-4789-9D64-216E1FA3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4A8E6F-101D-4AEA-9BCA-E5F826DC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A8E481-31CA-4CF8-AB0E-55A646D7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B0182A-CA36-47DE-AE84-3AD0A450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88C3B7-87DB-4C19-89EF-80D3C69B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9E6091-BBD4-439F-B0DC-6F85F099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16D1CE-417B-4719-9409-2812E5E3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EEC4DC-C131-4AB2-9E0A-641978AF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173772-1252-4EB0-93A4-BB6D8B57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4FB8E7-E178-4B0C-A032-EB071826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85B8AB-4166-40AC-A306-8256D1EF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2C6EB-133E-4B6F-9A5C-66B9D475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DD76D2-D214-4735-BED7-D02B11FE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01D436-D0AF-4185-A74E-10004D0B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A67B49-5A16-4334-BBEE-EE4EF00A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BB3FF6-B66D-42F3-B19F-68E04CCE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730F5D-F255-4F48-80EF-947C828B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63F840-AE31-4D8D-AF65-CDC3A730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2BD822-7E10-469C-8A60-B07CD93F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89F2FD-F25F-4BB1-AA10-3E38C0C1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A8A275-BC51-4BC3-961B-D97D2044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0BB38A-1CF3-49C4-82E2-527F487F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F4806-DF2F-4295-9F5E-94AC53CF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8C3D24-3B20-407D-89F7-D57B8D09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20F526-6081-45F7-9CA3-A9B1ACF4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FDDAFC-D4C7-474D-9083-278AD9F3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161272-0BD5-427D-A8F7-6811E11C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D1B756-53BD-4B1B-A2CB-FD578DC8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946245-C057-4413-88CC-18DA8A4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31F7F1-52EC-480D-A726-E70659E8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A252DA-C6B0-4414-90B1-6413A72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97D9D6-6FAE-46F2-9F22-821DFBBA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81FDB8-D220-4DFB-AA54-60C82554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172-3800-4892-9193-60AA534F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70D8-D4F7-4C89-9304-91204230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23240D-FF3A-485D-9F73-F85FBE03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4BA63F-7C90-427B-9642-005FEC3C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5D5F03-C6B1-4DBE-9498-BB4D7B6C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D3DC78-5FBD-4222-B786-F90E56E4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D88C8A-F852-4715-9E63-780EF12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24676E-8495-4908-91FC-486A24FE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BFDDBF-1459-438C-AF77-410A9B0C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DB18C8-D0B8-4C16-96F9-C4BA83D4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05371E-DE22-4E80-A7A7-B4FD2D7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A99BA1-1545-47C7-9ECD-07FC1C7D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E4A3-A285-4FE6-B32C-30826D14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0583F5-2267-45A4-862A-D1E63C49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CFFFFB-259B-44FF-AAB3-456D758F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48D7C9-8297-445E-B8F8-DB566514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FE5D25-A74C-4A6C-9196-76AC3763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9280DF-B6A3-45BC-BEDD-FF92D6CD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C703ED-DE81-40D6-B4A6-E9CB4ABF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42AB18-6DB3-4806-B598-E4F34FBB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06DCC7-F4B2-4CA3-A44F-F415BD1A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45A963-2569-49B9-B3EC-2CA9A5E0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9371A3-82D4-4084-B055-EFD9D0B3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FD9F-A408-45A7-839C-F9090887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0DE6C4-B09F-4696-B202-8EBE974F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691E76-B5FD-473B-AB50-086E55F5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ADD8F7-B4B3-42DF-A43B-07941A3F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7D24AF-E7FA-4970-92D0-615624E8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E72068-9BAE-4E0B-8C15-8F201C4A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55B82C-49E8-4C78-A4E3-02A84036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2465B0-5972-4D69-87DF-EF3CCB2E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0C2B63-90BB-40A6-BBC1-4983FB12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D79F5C-6C0E-4AA3-A082-4433E00C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6D2338-BF94-4F2A-9435-B498D42C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8448-6481-433B-9553-78C16966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2D9003-8430-4255-A786-D8512F06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9EF995-C5D3-4D8C-9003-3E66B4E1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4D4AF1-77AC-45C9-8E25-5608248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0F25B1-DA47-41D8-BBDC-BA88CCE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4E686C-E883-4989-B9A3-013E2340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A32EB3-2171-44B5-A850-EF8C1F0F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0DCED5-39C3-48A6-A03E-AE0FC7F6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9AAB142-CBA8-4E41-8779-A2D051A8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780C5D5-D92E-4C1D-8A07-187A2F2E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D74509A-F696-4A71-A035-D0F879BF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4723-5393-433C-8BF9-1211D842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0B40454-5230-415F-BF5C-EBE1EFE1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129577F-C1D4-43E2-8356-A0CB6C55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11077B4-21B1-46C8-80E0-B06B7D44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C6393E-0B35-4911-8FED-AF618816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01B232E-E7B3-4C3C-B715-A8B190B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086B475-B91A-45E5-94B5-CD24EAEA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5C207D1-C194-4638-BE50-20A17135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B1D5DA7-1AE9-4AD5-BDA3-45D00962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A14E2AD-FABD-432F-9E5D-6F305D02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1A647B-A555-4E45-A317-3AF29D0B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FAA37-CE27-4278-B4BD-ABA920C8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0D90B2-35C3-488A-999A-BD109E06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EDF75D-E8AD-4ADC-9AF0-C3560C06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AC4B53-B255-48A2-8EB5-ACFD9A7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09E93F-8D0D-439F-B357-FF98F588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0BEF5F-DBD4-4F59-8621-082EB456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060C22-0C72-492D-95A7-4C3417F8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11D949-A8E1-4DB5-8B05-4A7C50D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25F67C-96B3-4F28-80DE-EB352DD1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263B18-0D69-4DC4-9388-17C7C63F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F5FD38-80A9-4D09-9E3C-236959D5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D806-1C49-4DA5-9341-3DDCBA39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AB4C44-4BF9-4F9C-9BF2-2631F716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1100CF-E28C-48FE-BC6E-34437F2D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332ED9-38EA-4E1B-BD0B-93E7F991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2A8558-6ABC-4D1A-94EC-B1F57294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950921-AA16-4E17-975B-7AE28FDB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B5E086-D7CD-4F3A-AA00-86BBE7D7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D9C878-5054-42F8-A9FD-80FF48DC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EEDA45-3654-46C9-A702-5C83600E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59D80B-70A4-43DC-97A5-6BD30DE6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DCEB37-5172-41A6-8AB4-9647C8B5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E91AD-1B15-42B9-9B59-DDCED705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DC2455-1ED7-47AC-8F6A-11110B6A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8CC4D6-C3C2-4D11-ABFF-03CB230A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2B6965-F8E3-483B-8CA9-225CB3E1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B07699-D275-4470-801D-23BDA7D6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79444A-3F2F-4D8E-B36C-D121B30C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64AE36-3C22-42A1-93EB-797610C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22F614-9EC0-4292-9F7D-205BAE09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E22347-0EF5-4DC4-8DCA-E912C2F6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1C4355-6F3D-4D20-B46A-4F8994CC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E07EBE-5C63-4DF4-8047-76581147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B994F-BD35-4D72-8A0C-DC40052A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3FE5BA-2F95-4D15-AFAD-EB1AAC5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D35B26-ED7F-4E74-8F23-6F5182A6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DC516D-B7B1-4AF6-8E76-513C1D71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320BEB-3591-4426-9EEA-D8499EA7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BE3017-C9DD-4C8C-BDC0-B54C3AAC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FBC085-5ED8-4757-99FF-22CBD9CC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CA56F6-D215-4479-836D-896F68D1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B41AE8-90CB-4F07-822C-5CA843C4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C50C96-A9F4-4425-B9AF-A09C512B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BFEE94-1AE3-43E8-90CB-0A86D7E9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15065-6EF4-4947-B280-E7A17618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61D1ED-6FBA-4089-9926-63F567AC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7660E4-BF49-45B5-8C89-877C6A3F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6A1AF2-5EC4-4051-9D5D-7E17BBF0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3236D3-EFCA-474F-A28A-F80F5CE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FD73E6-DDD5-434B-BD24-9DF9BDB8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A6A3A7-7F66-4E1F-AD4D-F8BF9816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4BAE2B4-67F3-4D25-AED7-269894F2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98A91B-7C65-4CCB-A7EF-C03951D0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700BD4-100A-416C-AEAD-C5CFD394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A2FAFC-C773-42A9-B875-DA17EB6C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78C-4B51-4EBE-854B-D3AB9852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D4376-C2A5-4B38-B16D-551742CC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E3B4CE-4D7F-4D67-93D7-C3A401BC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2E7097-24EE-4AF4-99E1-1194A1EC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2B5043-9D0A-433D-8D6D-CAB6969D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FEFE25-6204-486F-AD2D-06DAD66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6EE6EA-8C83-40C3-A64C-9D1AEF77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388D70-D08A-42BF-B476-AD235C38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F0E3A3-2E19-4578-BFC6-7F26D826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5660FA-B4C2-4F41-8492-A8EB4FB4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F391B3-6DFC-4545-8DF5-02DE9A8C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E27746F-D17C-4565-8263-624ABB02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46BBB-1E80-49E8-BFE8-6F956B07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4251D51-A5CB-4144-9843-8B3BF554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38FB0B1-1522-49A0-85A0-343A6A89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E767FB0-AE42-44B5-BB9B-D1569805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959E601-C286-4518-B470-999EF5E0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9EA4396-21AD-4C22-A285-479BE38F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959D6F7-786E-4D80-A80D-16F0AC4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326A84F-046F-4D49-AE7A-1F18FFCF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51D663B-727A-46FF-980F-9023A0D3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F6BE1DB-6BCB-4F6B-AE54-63E00D94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015A16A-7EB1-47E8-BA26-0F143977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E096DC-2F21-4FCB-A03A-5430EFB2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B05C41B-2017-4B6A-A45A-7FF7EC42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12DC42-828C-4887-9AFC-59F82339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74A78D-D4E1-4CB4-AB61-E02BEC63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49B4EC-0115-4D31-BB1C-C40DD1E5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8740E0-0451-411C-8DA5-0ABC4D03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026645-225F-45BB-A224-04CC4C20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7A55B5-DC27-444D-8C7E-96F2DFEF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342FA3-0DEA-432D-A0A9-75CD4FF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08196F-F86A-4B91-ADCF-E397AB61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473C75-6F91-47B5-B4D7-42817A4F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2F576-027F-4948-9070-19E51E0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1D63C6-C991-4C55-93A4-A2AC4513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0F5FC8-8861-4D75-B8AF-09E3BD73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23D3EA-01A3-475A-B56C-58632CF2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546DFC-891B-41D4-9266-130E1D1E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62A5A9-C5EB-4929-A751-38B0EFB6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E1A3CD-32E4-4FAA-AD16-CCC6DB7B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6F00B1-3317-403C-B5AB-1E1619BC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B846BF-9AB7-4EAD-9171-61F31010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AF1DF4-B93E-46DF-B29D-6FF08946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A209F8-6E3E-40A5-A0BB-53E5F9D0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7A51E-03F0-47E1-8E7D-47CAD0D8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2852FE-AF26-4D91-A0F4-9B2E31DC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76BDE0-EC01-44C2-86B3-598EF2E9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4882B0-5A5D-4A64-99C8-A1A93880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4EBBD7-7AB5-4DAA-A61B-E9FEFE2D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160D89-BF03-48F8-83B8-1AD16D4D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811175-1C5C-4E9E-B323-1D5E1A72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17CC4D-9E8A-4CD4-8593-B39992D6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F3C838-BE04-4274-AAF8-F22AC211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FCF022-FA22-4EE6-9533-B7BBED53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6B6015-E956-448E-A4DF-8AE6DE56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9A9E4-7F6A-403C-BE99-15B7877F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788BA1-2C2D-424F-8974-A1B2DE3E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8D42E41-8C14-447E-8818-14129F90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306006-7014-435E-B859-E44CC811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6D1B80-2A93-4F41-A8EB-20BF5FC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BF12C1-9C64-4D1D-A318-67543349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EF42C08-B30E-4859-9FC1-0FB519F9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778802-70CB-41BE-B276-A72DDC87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CDA067F-3BD3-4B9F-8EBB-23761007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17B44D-E134-4C74-AFCB-33A1D281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123894-74AB-48A0-A9BF-A5FC5366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84662-3742-48EC-902F-96763F3E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E09459-E56E-47B4-A46C-6527A4D7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7A16098-75C8-4050-AFE5-7C838A4C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42B3BC-2CD3-435B-B1B9-0B45C7D1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C18E3A-0F3D-449A-9EA8-03EE4877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1995886-7680-4473-B21C-555CF54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162039-22FC-4B13-8555-B43440B3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D07C7D-6E90-43CF-92C2-08576AC4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982A39-AC3F-4EFD-8B00-072E329B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48CE3D-C818-468D-845C-F0A20272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200879-0CAC-4963-8E7A-2A10C2FE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E4131-382A-46A1-AD52-44FEC266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5F46953-FCAC-44BC-ADAA-6793314D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28A19E-DA50-40F0-8866-CA38988B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738013-873D-4EEF-8319-E6412987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BACF9BB-30D4-4CA8-85DA-57C6D27F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AC6D7C-2145-4499-94C4-E48E9541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0D2025-8269-4012-A8D3-5F4E78EF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A717E8-4675-4363-A78A-EE2F1354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4F2605-5454-4208-84AA-13C178FD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5443AA-C738-4259-8FD6-01382FAD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B41BB8D-1199-4B74-906B-D009C425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357BC-7A48-4901-837B-1F486A59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DDAE61D-7913-468E-96E9-EBFAF770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391033-D5C3-4EA0-B184-ECFFFF0D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A904F8-FD35-487A-8EFD-145DCDBF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2E9B1C0-3CB2-4584-9D86-D38E319A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313506-CFBF-4EB6-A31D-D6C6AE86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168E95-F334-4EFC-86A7-0BD58D07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DA1019-D053-4080-B12D-66A2659C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5C5E68-01DE-4C28-B727-1E40738A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918767-40E5-4A78-938E-647A8022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F430E44-3E05-4D95-9B5A-B641448A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99962-CEF9-495A-AEE3-7392F3BB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303278-825C-4685-A544-E88B1F48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E0E7B0F-0A78-4995-A84D-2018B92C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D169BFA-F9EB-4682-985C-DD17BE06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010B64-D1A1-4F1D-B6BA-11AC272E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B3C081-F9DC-45DB-AAA9-C6D3D893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2CE9EC-0317-403E-8E07-E48D665F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2CA17C-D25A-406D-AB0B-07D910F2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9AD8748-DE5E-4CA5-8F54-75E9C4B8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A3A5DA5-660C-4EB4-B625-079A6938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29D24CE-FB30-4752-B54B-23E4497D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451-9361-48AC-AF1C-6900EA85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85C96-4A5E-4617-898F-DAF5818A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30EE4E-EDF6-4DEA-833C-6A6C19A7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E4F306-3D37-4CC0-BA8C-85C5EC96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3037834-8031-4758-B163-414F2576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398D576-31E3-4FAC-9277-103EDC02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3D58991-9635-4F6B-A95B-3794F4F7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CCB5773-44B7-44A7-BE94-74CA0689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6AC4B36-95B3-44C0-AC97-E9799133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D5E1145-9914-44BA-A746-446EB68F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A4ED849-78DF-4851-8AE7-0C4C527E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73CD33-14A4-4B60-9E80-F7185A1D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E785-6779-4BA7-86B7-756705DF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58E56B0-1EF3-416F-8C53-0CE183CE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722C3E1-3063-4A21-97D0-CEAAB59A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C1AB98-4A6E-4C0F-89CD-21DB86D8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CA3B25-EBE4-494C-8B1B-5EE8B04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193FBFD-1393-4E09-9F94-A7327A57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1AD440E-5C0A-449B-89A9-93242CEC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1F0955-B726-4C84-A97F-DD1308C7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E3A03A-CD39-4744-A5CD-8A2A6B9B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183B8C6-940E-4078-9FA7-38EF28BD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9BC438-5CA1-469A-8BC2-C720DD3A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0C55-CB97-4A2E-A6B5-F7D4E795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379FF56-A02E-48B3-9399-720350E9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CECBDB0-1493-4FBA-AE3F-05E21C96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07066A-C8FA-42B7-AAC5-11A992D7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2AC6F8-A578-425F-A728-BDE56B07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D137F2F-C6D4-4135-805E-CC84A20C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3568E5B-74B7-4795-83A3-4B7DFEE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1D5FAC4-3429-40FC-A450-47866EF5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8FD508-CC8F-4F54-9906-428609C2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2E9DBB2-18C2-46B5-A904-94DA4363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6C5E176-8DA7-4781-BE06-FBEC3B8E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32FF7-449D-4506-A6DE-021817A4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423E32B-D087-440B-9940-9F95F8AA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3A61BE-8A30-4BA5-8FA4-65F0FC8C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8088C8E-6321-40B0-82A0-3FCFD5C7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43F0C50-8C07-4624-9831-45E070A3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EC3BA46-3D2F-4C5E-B7FF-BB38DB84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BE0F82C-F7D6-4246-B664-121ADF64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BCF0328-28DE-4D93-8AC3-ED79A79A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427A175-818E-428C-88E4-A37D3CBA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8C61CA7-9DCD-4315-B13B-58B4E4E4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40AC724-EE31-4A03-A01B-3BCA3331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2A689-6DB4-4B74-8048-38884FAD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5663FA-07EE-414F-9AE6-C0D27903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89A7DC-B3E9-49CA-BDB6-4046A503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CEF36A-53B9-4CA6-A831-F9EC4F52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E744A95-9309-4208-88AE-1ADE7AD9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8E38F7D-499A-4A9B-A026-6B1F9391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66F2F5F-012F-453C-8C88-DE2F36E1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1E6AC39-77D2-49BC-A389-BE3857B9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6D8DA44-DDD0-4558-94D9-228790AA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CA06471-2E6E-4394-AF12-2BEB759D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862C44C-94C5-4282-9D9E-07735733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C542B-4EA5-4EB6-9787-B56256BF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6533855-868F-40C7-88D5-8ECDFD32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B105D30-CAAA-4EEA-A4A1-537625BE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3CC0D17-6E39-4DEF-8818-7CF60830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E817B97-AD36-42AB-8880-60C8CB7E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17E8850-C965-4F5C-85E1-421E2F60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B2F72EF-306B-4E46-940F-8B413CB7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D3D2CF-7556-4A81-952F-8C8BC246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B928305-6CF6-423F-BFC0-E4A06266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7CAAEFC-2BA4-4E50-BD1A-4A190637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6A36B4-FF74-4393-A3D5-3DE5F870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FC3AF-4A50-4304-A89E-A42F26F2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E24DE78-D381-4A88-924B-6907BDEC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A92E913-030F-4949-9413-862D5C1A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96B3F22-211D-4C70-99A2-C290B0A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3F067C-AC5B-4698-B154-03951763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61DAFF-442C-4736-9661-2BC1404F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7F961F-4BF9-4A87-B5DE-682EA2F8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2EF245-FA51-4AA9-8B46-AC2AFA0F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701EAD-2DC5-442A-835C-DEF57765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ECAB1DE-9340-4F24-835F-B73F0043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0B3BF1-4611-4570-ADDE-D54379E2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F36A6-3EDB-4E97-9574-DDF529CA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C1568A-ADF7-49C5-979B-0202093F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6435F3F-16C0-4312-8A28-895E575D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B6ED90-33EF-409F-A17E-122989E9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DC9C574-3B5F-4F9A-8CA5-1AC9BC5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543B10F-011B-4AE4-BD46-3F638090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73BA75-13F7-4151-8C12-D337CEBD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6CD34E2-1B81-4C4D-A9E9-00262D4B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A190E16-AE67-4ED6-8826-07D4F5AF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32B8BE1-D1B9-4770-AD47-BC2C4B8C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5682CC0-0166-4C66-AE1A-C12CA863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740AD-5E25-495B-98CC-4D0ED274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0FEFF00-7752-4C7C-9E8C-98192B35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FFFC64D-19A5-445B-85CE-4896F06F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FC2B8E1-A1D7-4BDA-9820-60E6DFC2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9E81086-471A-4982-AAFE-7F0635AA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BBB863C-F5E0-4BDD-B248-1BC9B7D8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02A5BF0-82A4-4A30-A5B6-6460E5A4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4F62241-68E3-4CBE-B813-5B7E6B07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F5BF6C5-B40A-47E3-BAF9-5E469301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4F9A581-A973-4BEF-ACE1-13BBDE3A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274F14-70E8-4830-ABFF-017A2BE5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3BE4-54FE-4DDE-9265-62A07A23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D148A54-327D-4D6E-A60D-C629E690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FB028A1-297D-481C-9089-14E111D8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67FA7D6-CDAC-4D69-9EA8-212FCF77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1A231E0-EF5A-4202-9469-196E5BB2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DF20005-0049-4CD5-BE88-FF836150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95FB1E-3B64-4C80-9A9E-3212234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AD34A46-A76E-477B-821A-B34FBC7C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E4F1803-75B9-4305-9A50-C93AD961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7DA05BC-F0BF-4DAB-AD9D-5675C817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982A4FA-AEDD-41C4-91A0-C92A9C40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E9E-075B-4E31-B2AA-37C2FF5E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B7AF-5A0F-4A8E-BAFB-B4284508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EFE333-5C86-4843-99C7-836C8D1D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0AE1FAA-3666-4452-8A69-E250290C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795E7C7-93E7-44E0-9C21-741CBFCC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95CFFA2-6494-4583-B545-DEA2BFB9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C94517A-E691-4049-9E77-F859C654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584C62C-6DDE-4B11-BD51-9E00B2E8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C93F700-2742-4AEB-A6AC-D8F3E846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7D3330E-8850-45E1-9B73-95B26FA5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4DD8F17-D094-47C8-A49D-9A6E3170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7CFE71E-C92C-46FA-89B2-543F1BA3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6D402-5CBE-417B-A63C-2870678C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E841C72-D31D-4912-8828-F5A2B047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4F1C77E-C05A-4301-BDC0-9792864B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BD158AA-CD69-43A5-B48C-7865E98B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273684E-BDE8-447A-B056-F95DFD1C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34E95D2-613A-408A-8206-58F84BDE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92882EC-E71F-4625-932D-9EED4FB5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F8AFB1E-BFD9-4A8E-B520-4C25BEEE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EEA77DE-2197-43F9-BC54-F0A332C1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319876E-24E8-4549-9FB0-5E8F9479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EFFAFE1-BCED-4E81-AC3D-D6ECC4A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AA5F6-49F2-4C7E-944D-D9C82677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E41952F-127C-4DA2-97E9-C1D263D4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F40F4A4-EBCE-4EBD-BDA1-E6E5024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63C3A49-9D3E-42EC-9B4C-A0C0CD70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C641285-1A89-4CCB-BB63-4C9E4889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40CBE44-9288-48EC-A29E-E96CC4A3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6D693AA-4ABB-48B4-81D8-C792AAB0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ECD4073-D4EC-4F8A-879B-B0C49150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84935A-734A-4BDB-9397-3B238222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3BED215-4552-416D-9593-DF027019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CA776BB-5DA2-40EF-B979-60C53665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30A54-35FB-4713-8138-4B4E8D62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7AB4C01-F227-4410-A389-EA95C213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973F291-88F6-4D32-8127-22A46CDD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72E6C9-C880-445A-8A1A-2BDA7793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D23953D-3F13-4B0C-96CE-3F0DA68E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8E12BFE-5009-42F0-9104-96CF87DC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A4AA97E-4BA6-424D-BC48-CD4C69F3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CE067E-B26D-4F1F-8A77-DE0E4CBE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8BEBDE5-6EAF-420C-AD6B-4CBA33D7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998AA37-1CA3-4DEE-B7CD-775FABD7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73EBD23-BA07-41AD-8331-71A908CA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78999-94C0-4A77-B5A9-20E04DDA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B761453-AE65-4121-8DCE-10228B5C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06A8263-C484-4B20-BE54-1E9EEFF7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D6AF17-AACB-4E48-9F49-2327F671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67872A7-2C73-43FF-BEB9-9168F3CD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2A347A8-2000-4D99-8421-D16E1A6E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723D00E-026B-42FD-816E-13EEF14D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A9333D-0342-4EC1-A673-E5E5595E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2F5B0EE-006C-4A8C-9390-B12BE840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959ABD3-CB46-46DA-BE9B-042E4D8A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3EC4984-0036-469F-9404-2CE9A24E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46AB1-CFA9-417F-9EB7-A244A3E2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B6C0A10-94B3-4404-8BE8-AD5D215E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8A79741-A721-49D6-AB2E-A8DB794C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BA8646E-DC84-4A3B-9B3A-C5F42F6A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5BEFA10-83FD-4EB3-AC90-F43C7AE9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31DA652-37CF-45E7-ADD7-5D924A94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5EE9DA5-3E76-4C2A-862D-C28766A0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599CCC4-10AE-430E-840A-D80C10C5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CFBCF85-E618-4F26-B522-C4CC67F5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8558AFE-ECE3-4FBF-BFCD-D7202FB2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80CD12B-F4D7-43BA-B5D6-50AA4950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817EE-4444-4AA9-A29C-9329199A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67292B8-DA0E-45AA-8B8D-05877DD1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39F7F6A-EE8F-428F-B069-109FD00B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1642202-D5FB-4028-959D-DA454A08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B08AC81-31D3-4CA5-9B2D-DF70F38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F3D7F07-FC68-4FA0-BAE2-26E43CAD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F4D37D8-DCB7-4099-BEEF-CFC6D0CE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46E7869-16CA-4828-8200-2A202953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A9ED904-12C3-48E2-B721-545482C1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EB84BE0-0967-474E-BC7D-25FD6553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04BF21D-1EB2-4664-A0C9-F3F506E4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1C288-4240-485D-9CFB-5367C04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59BE3F6-8A4D-4CA0-936A-AF9DA710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58E0238-85C6-4CDB-A98B-2909E924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5AD9D89-031C-4983-86E5-2E92828D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A9C96A9-C216-4884-AD66-BA585A69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9B1522B-6B08-4D44-9575-C39B63DA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707C82A-5DFC-4814-A76C-C1CB6A19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3E25B18-5277-4C7D-A7DC-1AF04A68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8751062-6CCB-452B-ABDC-C82530E2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796D265-3A93-4C9B-9627-CA432086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2A0551A-D63B-4F26-874E-BF0781BA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1463E-3902-450C-A144-D6A24727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6AE8116-C011-492B-8B94-1CAC4EB8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134B05E-DE06-484C-8618-4FC2674B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1D42FF5-0379-4CAF-9C01-58563C2A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F6EF48A-90DD-4B98-A31E-D374FED3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9DFC9B2-6AA8-458E-BA52-5242F3AF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6FF5-3552-4561-9C8A-5FC2054C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34A-FC13-4BC0-9BEC-C928928B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A149A-15E9-4743-B427-8A92B3E7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3ED1E-DDD1-4435-8554-2CF1E625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6B639-9E9A-4385-B116-B1F3E448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A57BD-45EF-479B-9E72-5D72B0A0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A368D-936A-4082-9B0D-5C01F151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E2570-E40E-48F6-AA59-FDD90588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5B1C3-19AE-40BD-A155-1F12025B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722C7B-99D8-4C15-9F52-A20A7365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5911F-7176-4C28-9E43-F51E6D5D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6A9DB-5FF1-4267-AC07-1301A23F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0F3-6761-4C02-ACEE-078E3510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9BDC31-8C3A-4D5B-9468-C3C13668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215C0-7A1D-40F0-B5C4-C3B7DE96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EDCBF-25E0-45CE-A5D1-7CC7657B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0DE5C-8E40-4033-8AE4-1B6ADD92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3DBB9-159F-41B8-8B25-8D400C84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7977B-E5D5-4561-B7AB-A466FBB5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4291C-1A3A-49F9-BB00-6AF9C004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9F9F-CD4A-44F0-8169-D4703DFA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2B52C-0E8D-438F-BE62-241F09A0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8FF13-B7EA-47C5-8796-48791E3C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3F8-0A44-42E0-8BA5-E4233974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D4ADF-888F-47D9-8877-46FAA7DE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0A206-42D1-4448-9CFB-C81C70E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25D1A-BD30-40AE-A168-62518050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9499F-1E57-4B2C-8B84-6B18E25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9A29E-AFC2-4BA0-A9B1-53420D7C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C0E47-AC3A-471A-B11B-79587D3F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F5640-4659-4835-ABCA-4C2DE79B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7611E-96BE-4633-83F7-4A9B8BA4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F018D-7C0C-4B5B-A358-3D782BDE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9A775-91E2-4CA7-866E-A177DFBA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9573-0432-42E9-B397-1A70496023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06AA-EC41-406E-9241-AC5D99FD2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A83F-3E4C-45A5-B0F7-09A555BA14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A74B-8E9D-4AF7-BACD-BFAE46A3DC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4CA1-4E95-4387-83C6-6D9F5994BEB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7EB7-F88B-49B0-B95A-21701DF23C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D24D-F040-43FE-A597-89E8AA9DDA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92F7-A445-49DC-BD85-2DBA42E8B6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A128-A9F3-4D19-BBCF-2436A711023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A5C4-A2AA-4E2F-A27B-EDA4BB09D0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ED59-19B0-40D3-8825-0F547C069B6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4C04-FC2A-4BB6-A61A-FFE0F7F3DF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2B7B-FAA2-4D85-A41F-592E34552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5B11-8387-43C1-A8E0-D7E89FBD6B9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9E7-7FA7-4298-A52F-133445EC4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8184-6CF0-427D-9F9F-959EEDCC0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B804-F437-43F9-90FF-6664811A3C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EF10-AAC2-4C04-BE87-0BB9F50BA50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09CA-A047-42CF-9E1A-D6219EDE2B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BD4C-4E66-4BB6-8E11-809490695A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0E04-206D-46CA-B30C-ED3FEA3BAF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6B5D-1083-4A3A-935B-CB5D75E4B1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ED16-5E98-4CEB-ACD5-E36A24BFC5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C6F-2AD9-426B-BE27-3C4424E10B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B34F-3643-4539-A986-4147463EA4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77F9-54DC-4AFB-83E1-583379D7D0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F590-55C0-40D9-BFAA-4BC2B2F288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99AB-00D7-4B88-8334-7E35BC514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FD6A-AA2E-4145-BEF7-F91C86C5A2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1688-EFE5-41CE-9C87-034C2B695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4A3E-B837-4795-A79F-40BD62225A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16CF-D8E1-4AF7-95B3-4E17E4AF81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8C1F-508F-49DD-A2A3-FDAB24442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1093-6BE3-4A7E-AB81-9DC5739345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B2A6-B9D6-415E-9EC7-D5EC219F91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0560-F69B-475E-ADED-8FE17114A3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29BB-1915-433F-9413-60999003AA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793C-A89A-4620-A3E7-78A2305D62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B97C-BB03-4DCE-8FE5-AB6325A281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C41A-99D8-439A-A666-7D264811E4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E6A8-036F-49AC-954D-C9C990140A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3456-FE29-4015-A1E1-E030B185A3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57CD-5058-42DA-9AAA-4445417B89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43C4-2082-4937-ACBA-BB8DBC64DE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86E5-624A-48E4-9521-890881E51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002B-9C2B-4030-B0BA-B739469F1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9259-A328-4EC6-A256-174B8ED8F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74CE-ADDD-457F-BAC0-83AEB71167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76DC-E433-4687-B3F1-5EED9C9964A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D760-ED73-4465-8F06-D60CD51411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5A6E-97D5-49E8-B2B0-25864CF153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CF77-4E6F-47FD-837C-FF3EF6117E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6D8E-3EAD-464B-A758-884FC108BA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C9ED-5CEE-4E21-A551-AD0D75405E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2D73-AAFD-44A0-87BC-FCBEC975EC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F19F-C736-4050-A03A-26BBA6673D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388C-0E27-403D-9C75-579857C15F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33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3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4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3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4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  <p:sp>
        <p:nvSpPr>
          <p:cNvPr id="339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97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1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2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4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  <p:sp>
        <p:nvSpPr>
          <p:cNvPr id="34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9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0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  <p:sp>
        <p:nvSpPr>
          <p:cNvPr id="3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2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  <p:sp>
        <p:nvSpPr>
          <p:cNvPr id="3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  <p:sp>
        <p:nvSpPr>
          <p:cNvPr id="34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9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0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3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2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  <p:sp>
        <p:nvSpPr>
          <p:cNvPr id="34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34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0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4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5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6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  <p:sp>
        <p:nvSpPr>
          <p:cNvPr id="34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3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4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3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6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  <p:sp>
        <p:nvSpPr>
          <p:cNvPr id="3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8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9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0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3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2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3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4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  <p:sp>
        <p:nvSpPr>
          <p:cNvPr id="34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  <p:sp>
        <p:nvSpPr>
          <p:cNvPr id="3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  <p:sp>
        <p:nvSpPr>
          <p:cNvPr id="3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9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  <p:sp>
        <p:nvSpPr>
          <p:cNvPr id="3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LEGION</cp:lastModifiedBy>
  <dcterms:modified xsi:type="dcterms:W3CDTF">2017-07-03T12:49:43Z</dcterms:modified>
  <cp:revision>8</cp:revision>
  <dc:subject/>
  <dc:title>Presidents of the Phillipines</dc:title>
</cp:coreProperties>
</file>